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9096582-AC04-473F-BB9D-669B6BE79B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748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7760" y="3906000"/>
            <a:ext cx="26474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14360" y="53964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0640" y="39060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6000"/>
            <a:ext cx="822312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5200" y="530280"/>
            <a:ext cx="543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bdad"/>
                </a:solidFill>
                <a:latin typeface="Arial"/>
              </a:rPr>
              <a:t>CE Workgroup Linux Foundation / Embedded Linux Conference Europ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204240" y="1890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echnical Show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w="381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716360" y="1557360"/>
            <a:ext cx="1800" cy="5300640"/>
          </a:xfrm>
          <a:prstGeom prst="line">
            <a:avLst/>
          </a:prstGeom>
          <a:ln w="93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240" y="153972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is demonst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960" y="15573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was 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02320" y="5770440"/>
            <a:ext cx="44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Source code or detail technical information avai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3240" y="578808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Hardwar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549360"/>
            <a:ext cx="91440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0" y="0"/>
          <a:ext cx="758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58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31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1160" y="69048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monstration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240" y="112536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er Nam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84800" y="6904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Quick Boot Up Ma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80" y="1125360"/>
            <a:ext cx="31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omas Brown / Brown Cor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72680" y="6004080"/>
            <a:ext cx="348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patch was sent to LKML in Sep. 20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78280" y="1987560"/>
            <a:ext cx="3522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eliminates the unnecessary process f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ring boot up time….. See the 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de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0" y="1971720"/>
            <a:ext cx="28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rprisingly quick cold boot up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" y="6006960"/>
            <a:ext cx="270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wer PC 4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2MB NAND Flash Memory 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9800" y="2924280"/>
            <a:ext cx="23907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main (argc,argv)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/* Here is an example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rocess_a (_INTQUICK, 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rocess_foo 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kill_kernel (IMMEDIAT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/* It is bad way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kill_kernel (AFT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3068640"/>
            <a:ext cx="5329440" cy="165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 Black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Michael Opdenacker</cp:lastModifiedBy>
  <dcterms:modified xsi:type="dcterms:W3CDTF">2012-09-23T06:11:26Z</dcterms:modified>
  <cp:revision>2</cp:revision>
  <dc:subject/>
  <dc:title>スライド 1</dc:title>
</cp:coreProperties>
</file>